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F31B-9172-4610-8CE1-D1094A20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54E-A359-4149-837D-28DA07FC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453-A578-4B7A-95C6-28AF431F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FA0-85DC-4326-B119-32A98B90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2BC-EF37-4D62-BC2A-FE4938FB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706-8588-43AA-924B-E7A58DDA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6F2-B5B6-4E89-9668-1033CB04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167-E0BC-455E-A9E5-11C10689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EC1-6195-4B18-A2B4-23912BBC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4AA-2AE2-4806-9D23-7CBE4D83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2F1-DFE4-41CC-A751-9057F144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65F-7AFD-49E7-BDDC-F31C0D82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ED46-0FA9-4A8C-BFFE-F1AC635D1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人大太天月日明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又 友文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朋友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=</a:t>
            </a: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fri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这天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=</a:t>
            </a: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this d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文人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=schol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人人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=peo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98989"/>
                </a:solidFill>
                <a:latin typeface="Calibri"/>
                <a:ea typeface="宋体"/>
              </a:rPr>
              <a:t>又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___</a:t>
            </a:r>
            <a:r>
              <a:rPr b="0" lang="zh-CN" sz="2200" spc="-1" strike="noStrike">
                <a:solidFill>
                  <a:srgbClr val="898989"/>
                </a:solidFill>
                <a:latin typeface="Calibri"/>
                <a:ea typeface="宋体"/>
              </a:rPr>
              <a:t>又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___ =not only ___ but also 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这个朋友又好又日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C:\Documents and Settings\lsabey\Local Settings\Temporary Internet Files\Content.IE5\XSJY32GK\MPj04392480000[1].jpg"/>
          <p:cNvPicPr/>
          <p:nvPr/>
        </p:nvPicPr>
        <p:blipFill>
          <a:blip r:embed="rId1"/>
          <a:stretch/>
        </p:blipFill>
        <p:spPr>
          <a:xfrm>
            <a:off x="2438280" y="1523880"/>
            <a:ext cx="4572000" cy="4919760"/>
          </a:xfrm>
          <a:prstGeom prst="rect">
            <a:avLst/>
          </a:prstGeom>
          <a:ln w="0">
            <a:noFill/>
          </a:ln>
        </p:spPr>
      </p:pic>
      <p:pic>
        <p:nvPicPr>
          <p:cNvPr id="46" name="~PP2624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这天她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帮助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老人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  <a:ea typeface="宋体"/>
              </a:rPr>
              <a:t>xiang3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  <a:ea typeface="宋体"/>
              </a:rPr>
              <a:t>bang1zhu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  <a:ea typeface="宋体"/>
              </a:rPr>
              <a:t>la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5" descr="C:\Documents and Settings\lsabey\Local Settings\Temporary Internet Files\Content.IE5\XSJY32GK\MPj04075010000[1]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pic>
        <p:nvPicPr>
          <p:cNvPr id="50" name="~PP574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明天他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想帮助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朋友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xiang3 bang1zhu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  wanted to help</a:t>
            </a: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3" descr="C:\Documents and Settings\lsabey\Local Settings\Temporary Internet Files\Content.IE5\FGJUL90C\MPj04388130000[1].jpg"/>
          <p:cNvPicPr/>
          <p:nvPr/>
        </p:nvPicPr>
        <p:blipFill>
          <a:blip r:embed="rId1"/>
          <a:stretch/>
        </p:blipFill>
        <p:spPr>
          <a:xfrm>
            <a:off x="3657600" y="2819520"/>
            <a:ext cx="254016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~PP1786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MS PGothic"/>
              </a:rPr>
              <a:t>天天她 帮助人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lsabey\Local Settings\Temporary Internet Files\Content.IE5\7ARHBD3L\MPj04394670000[1].jpg"/>
          <p:cNvPicPr/>
          <p:nvPr/>
        </p:nvPicPr>
        <p:blipFill>
          <a:blip r:embed="rId1"/>
          <a:stretch/>
        </p:blipFill>
        <p:spPr>
          <a:xfrm>
            <a:off x="671400" y="1523880"/>
            <a:ext cx="7558200" cy="4632480"/>
          </a:xfrm>
          <a:prstGeom prst="rect">
            <a:avLst/>
          </a:prstGeom>
          <a:ln w="0">
            <a:noFill/>
          </a:ln>
        </p:spPr>
      </p:pic>
      <p:pic>
        <p:nvPicPr>
          <p:cNvPr id="58" name="~PP3534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54:01Z</dcterms:created>
  <dc:creator>itsuser</dc:creator>
  <dc:description/>
  <dc:language>en-US</dc:language>
  <cp:lastModifiedBy>itsuser</cp:lastModifiedBy>
  <dcterms:modified xsi:type="dcterms:W3CDTF">2009-04-16T19:38:59Z</dcterms:modified>
  <cp:revision>6</cp:revision>
  <dc:subject/>
  <dc:title>人大太天月日明朋 又 友文这</dc:title>
</cp:coreProperties>
</file>